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59D-2A69-4E01-9F3D-2F94BC16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7FE-608E-4204-904D-B243E65B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37F-C670-4C9E-B474-0C363524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0F4-DF39-4554-8AD3-DC1CAF16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A329-0DF6-4A61-9585-9C3629BF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9BD3-30D7-4A5C-A93A-99794439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F2DB-61F5-4164-9EB2-F782CCAE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7C09-0F84-4A8C-86B2-8A2494B7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4287-1C76-48D0-9A85-00A31888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9EB4-8C3C-40DB-AB5D-1A160D50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85F6-A653-4DCE-A72B-9D05A06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168-4514-45AC-922F-3DB731A6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0B7-DBFF-4005-A43A-8929433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4D92-51DC-4CE9-8003-F1E0CBD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78F2-FC3B-49A7-899F-41CA470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00C4-F174-4104-BF5A-3E624E3B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37F-936B-4AC3-9B88-B7351122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E273-B1DE-420F-8373-09B360A2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B08F-1C9E-4E9B-99D6-802DC4D1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7209-F78B-4CFC-A1B1-A7C9E4C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5F3C-4854-4363-9094-6FB69BF5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2512-8490-4D74-A24F-0F3C1B27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D44-B003-4EC0-9CF8-DD2F98A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5848-553A-443D-A3EC-A8E0F77D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7682-D849-4589-946A-061E5B3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335B-D079-4447-A5DC-301334C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02F1-9B96-4C68-B6D4-8C0F1EF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BF54-0404-4D2C-B71E-712BC7F6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36DE-6633-48CA-B3F0-DDD9B0A0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2F24-FD4A-4F0E-B18A-82ACD94D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D6DE-2C42-4206-8C40-36C92BA7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C67B-1CA8-4E78-B598-66118D2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BA26-6689-4421-BC43-DE1BC9C4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C0D-C2AE-4D24-8B2B-6B7720A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FF61-B361-4FC9-AAF7-F351A70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B876-2CAF-48E9-BA25-C60CAE1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E669-C613-449C-9451-185F1878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7B14-4F30-4029-A87B-6F6260A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310D-94D0-4F8E-8AD4-AB1CE75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9EA0-BB15-4211-8FF5-10EFAD8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DB82-0BFE-4243-9DA6-61D289DE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FAB7-E7E4-4F90-96C9-0AF75364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3806-E0AE-49E8-A549-408DE719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E08A8-3FFC-4932-A5A0-999F3E40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FB3-CD9A-4971-AE03-F12FC270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0B74-04FE-4084-A007-FC6DA95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500FE-8B96-4ED6-BFD1-CDCFBF2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A692-E6CA-4DA5-A853-B4EC69D2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B7FC-A6A5-4CD7-9C3E-199820FC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5216-AADA-4B5B-9D58-750C9CC9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8A5F5-0AD4-4DA2-9E07-FF3A2D4F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4E9E-9F76-42BC-8C3E-CA963DF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5DE4-DA3C-4BA6-91E8-4889110C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7C72-8951-4C85-ADE6-ACA373A1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5B73-ADCF-4E64-AB95-9954771E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ED3-E5B8-4A88-B678-B3E12721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497C-0B8C-4379-BF32-50BDE3C6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32E8E-DCA0-4AF4-BE2B-5A43BCDB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66B19-C04D-45BF-A740-CC9DE59D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CE8B7-9814-4D60-A780-F409BA5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50323-E601-4797-A471-70BD684F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A9CDB-B824-4199-988E-CC48C6B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DF804-9909-456C-A56B-BCE9197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09D75-906B-493E-A135-C5415E0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B86F8-A1E1-49E2-8DAC-18AC37BF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3958E-FA5D-427F-9A7A-2099AB5A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816-0E64-4176-AC0B-689586E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D1541-A2EF-4C06-9FCE-649D103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0215E-9643-4D59-AD72-D32C96F0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05C46-5F76-486D-9B92-926E04A9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DCCB-8E3A-47F8-9471-B5C34041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C56BC-D723-4103-897D-8EB61D5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2272-F361-482E-8BD4-990CBA35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A844-BF81-4A24-9DA5-580E2692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F2E0-03F0-49E3-AD69-6EBEA87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896BD-AF64-4A8E-BF70-7605F231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C510-674B-4FBB-B360-5937EEFD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217-F68C-41B1-8C05-F7FDA23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F735-9F31-4945-BFD7-ACC7D77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6CD46-12E9-4281-9C87-8AAAF3A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AEEA-3923-40BF-81BA-8E5E0027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7B129-E691-4BCC-9B9A-953F6824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84B7-96A1-4544-88CE-7AD3C581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6F413-BDD6-47F9-927D-DE56F414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9D77B-3B76-465B-9A16-634D3C01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ACF3-5E40-42C0-A8A6-1E7A2ED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AF5ED-56CF-4AE5-8C0D-E4B461D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1C5DD-7DEC-4C49-916B-AD4445F2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81A-E762-4375-BD22-540C1CA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32A46-F519-4D79-812A-2BBC6651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F8DA-C478-48A6-8EF5-3830CE4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2846-E8BD-4C2C-886B-3F84FA6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AF9EC-A0B9-4CC6-BCDD-611E372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2A35-6FB3-4DE7-A8B1-A72C9ABB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633B-DEA6-4B5F-BD17-398F8F0F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FB2FF-3E2B-4FF3-9B60-138B2DBE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C6FC-1088-4722-B9AE-26F543A6B2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D622-60FF-4F1C-A401-DE39968D9E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603-4FD6-453B-B8FF-A6278D6DA24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6FA-ED61-4301-98EE-C2AF0CF696E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0EA1-A0E5-40FC-8AB2-7DE5448F8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2F03-8E6D-4992-8CFF-4C8727C20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35BA-452A-4DA2-AD68-C0D55003D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7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1015-5CC2-4312-B8C0-69C1D4974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u/Cooper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095880" y="4343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19920" y="4343400"/>
            <a:ext cx="2819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org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ptember, 27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eriod #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mputer #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457200"/>
            <a:ext cx="493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l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1973160" cy="22129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4267080" y="6477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li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143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vention: Jell-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l-o contains gelatin which is made out of boiled animal b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’s wife actually created the name Jell-o for her husband’s new and delicious inven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00, Peter (inventor), sold his “Jell-o” invention to a man named Francis Woodw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60, Jell-o sales reached to… $1,000,000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ole idea came up when Mr. Cooper started to play with gelatin.  Then he made fruit flavored gelati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Inventor: Peter Coop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 Cooper was an engineer, and a philanthrop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lso was active in politics, and community affairs, and known for a variety of useful inven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in New York City on Feburary 12, 179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ew up in Peeksville New Y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he was a boy, he was great at masonry, hat making, and machine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Cooper"/>
          <p:cNvPicPr/>
          <p:nvPr/>
        </p:nvPicPr>
        <p:blipFill>
          <a:blip r:embed="rId1"/>
          <a:stretch/>
        </p:blipFill>
        <p:spPr>
          <a:xfrm>
            <a:off x="0" y="0"/>
            <a:ext cx="5638680" cy="32004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Cooper"/>
          <p:cNvPicPr/>
          <p:nvPr/>
        </p:nvPicPr>
        <p:blipFill>
          <a:blip r:embed="rId2"/>
          <a:stretch/>
        </p:blipFill>
        <p:spPr>
          <a:xfrm>
            <a:off x="6172200" y="914400"/>
            <a:ext cx="2971800" cy="59436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228600" y="3886200"/>
            <a:ext cx="4952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eter Coo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,Sept. 29,2010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http://web.mit.edu/invent/iou/Coope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5Z</dcterms:created>
  <dc:creator>install</dc:creator>
  <dc:description/>
  <dc:language>en-US</dc:language>
  <cp:lastModifiedBy>install</cp:lastModifiedBy>
  <dcterms:modified xsi:type="dcterms:W3CDTF">2010-10-14T17:29:33Z</dcterms:modified>
  <cp:revision>14</cp:revision>
  <dc:subject/>
  <dc:title>Slide 1</dc:title>
</cp:coreProperties>
</file>